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473-745E-4FF2-BD3D-A3FB88E7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BDD-BFEF-4552-84D5-EC528298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2AD-5B68-41B1-94C0-A0419403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7DE-ECC1-42C8-9D40-593F2547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0C3-3A2C-4A6A-A12A-1332AD1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FFC-76C5-4424-A2D9-6EF998E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1D0-F4A8-4636-8AB4-DF22396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A30-E966-46B2-AFA2-9E5B4B3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00F-DE29-4790-8535-C6FD4D9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509-149A-4812-9FB1-710F19B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A3A-2577-492F-A138-97D915E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33D-A415-406E-BF78-3718B28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20F-8ABA-4062-8C01-8C7E328B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j0309932"/>
          <p:cNvPicPr/>
          <p:nvPr/>
        </p:nvPicPr>
        <p:blipFill>
          <a:blip r:embed="rId1"/>
          <a:stretch/>
        </p:blipFill>
        <p:spPr>
          <a:xfrm>
            <a:off x="3429000" y="2971800"/>
            <a:ext cx="2603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do one s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inning on an axis (like a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clockwise when viewed from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4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3 hours, 56 mi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174012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6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8"/>
          <p:cNvSpPr/>
          <p:nvPr/>
        </p:nvSpPr>
        <p:spPr>
          <a:xfrm flipH="1">
            <a:off x="426528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because the Earth s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day and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isingSetting"/>
          <p:cNvPicPr/>
          <p:nvPr/>
        </p:nvPicPr>
        <p:blipFill>
          <a:blip r:embed="rId1"/>
          <a:stretch/>
        </p:blipFill>
        <p:spPr>
          <a:xfrm>
            <a:off x="0" y="35812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 flipH="1">
            <a:off x="4341960" y="1373040"/>
            <a:ext cx="2880" cy="5486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shows a planet rot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sponseCounter"/>
          <p:cNvGrpSpPr/>
          <p:nvPr/>
        </p:nvGrpSpPr>
        <p:grpSpPr>
          <a:xfrm>
            <a:off x="304920" y="3200400"/>
            <a:ext cx="1143000" cy="2374920"/>
            <a:chOff x="304920" y="3200400"/>
            <a:chExt cx="1143000" cy="2374920"/>
          </a:xfrm>
        </p:grpSpPr>
        <p:sp>
          <p:nvSpPr>
            <p:cNvPr id="58" name="RCPole"/>
            <p:cNvSpPr/>
            <p:nvPr/>
          </p:nvSpPr>
          <p:spPr>
            <a:xfrm>
              <a:off x="449280" y="3295440"/>
              <a:ext cx="0" cy="2224440"/>
            </a:xfrm>
            <a:prstGeom prst="line">
              <a:avLst/>
            </a:prstGeom>
            <a:ln w="63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CFlag"/>
            <p:cNvSpPr/>
            <p:nvPr/>
          </p:nvSpPr>
          <p:spPr>
            <a:xfrm>
              <a:off x="487440" y="5213520"/>
              <a:ext cx="960480" cy="33336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Top"/>
            <p:cNvSpPr/>
            <p:nvPr/>
          </p:nvSpPr>
          <p:spPr>
            <a:xfrm>
              <a:off x="304920" y="3200400"/>
              <a:ext cx="288720" cy="110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Bottom"/>
            <p:cNvSpPr/>
            <p:nvPr/>
          </p:nvSpPr>
          <p:spPr>
            <a:xfrm>
              <a:off x="304920" y="5519880"/>
              <a:ext cx="307800" cy="5544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6308640"/>
          <a:ext cx="8312040" cy="549360"/>
        </p:xfrm>
        <a:graphic>
          <a:graphicData uri="http://schemas.openxmlformats.org/drawingml/2006/table">
            <a:tbl>
              <a:tblPr/>
              <a:tblGrid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0" descr="earth rotation.jpg"/>
          <p:cNvPicPr/>
          <p:nvPr/>
        </p:nvPicPr>
        <p:blipFill>
          <a:blip r:embed="rId1"/>
          <a:stretch/>
        </p:blipFill>
        <p:spPr>
          <a:xfrm>
            <a:off x="5867280" y="1143000"/>
            <a:ext cx="191628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arth_revolution.gif"/>
          <p:cNvPicPr/>
          <p:nvPr/>
        </p:nvPicPr>
        <p:blipFill>
          <a:blip r:embed="rId2"/>
          <a:stretch/>
        </p:blipFill>
        <p:spPr>
          <a:xfrm>
            <a:off x="3276720" y="4089240"/>
            <a:ext cx="5248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the Earth rotates we g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648320" y="1371600"/>
          <a:ext cx="396216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396216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15800" y="6070680"/>
          <a:ext cx="8312400" cy="54936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28600" y="380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8:14:54Z</dcterms:created>
  <dc:creator>Jean Kavanagh</dc:creator>
  <dc:description/>
  <dc:language>en-US</dc:language>
  <cp:lastModifiedBy>Jean Kavanagh</cp:lastModifiedBy>
  <dcterms:modified xsi:type="dcterms:W3CDTF">2010-02-18T17:57:43Z</dcterms:modified>
  <cp:revision>12</cp:revision>
  <dc:subject/>
  <dc:title>The Earth in Motion</dc:title>
</cp:coreProperties>
</file>